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4FF4C-5D95-41A4-A153-AA72CC8AA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A926C-A544-40E7-939C-F7C3299F5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71B17-1E43-42D0-9876-F855B3F7D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BA930-0885-49A3-96DC-F16294552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1BE6E-561F-47E0-86FE-8E8897F76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F5777-B301-49C8-AB67-97A6B0538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486C9-9C73-4314-BA19-623B08656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9E25A-531F-49CB-B409-8CCE844B1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40FD1-4645-4F9B-8552-0BACCE89D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4C8F5-C367-4D86-B0E5-1D02342BC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4A2D0-EDAA-4E52-B455-5364C7D83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ED7DA-68A2-457F-BF56-0494924A5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03DB9-31D6-4524-8B0F-5C12E8BBC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91F08-39C5-472B-873C-66AEBE3C6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80F31-68C7-466D-83DE-ABD82E2AF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1A3E6-F7AC-48BC-9DF7-760F8A45F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22FDD-A2D6-414D-A90D-C21EE67CB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0112A-2F50-461A-B9A7-D53CD0343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34053-EE7E-487F-90C6-523F78570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8C8EB-D999-4510-A279-C35117003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CBDEF-B9AA-4978-8B20-90F5D705C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BEDF9-B662-4EC3-AC64-8BDD56104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25A84-0D98-4C8C-B59F-6CCC4AD3F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79D16-A8B9-4F53-910B-E6669F338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f2d25"/>
                </a:gs>
                <a:gs pos="100000">
                  <a:srgbClr val="55534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55534c"/>
                </a:gs>
                <a:gs pos="100000">
                  <a:srgbClr val="2f2d2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2f2d25"/>
                </a:gs>
                <a:gs pos="100000">
                  <a:srgbClr val="55534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55534c"/>
                </a:gs>
                <a:gs pos="100000">
                  <a:srgbClr val="2f2d2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9ea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7b6a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015FE-4253-45AC-BAD9-297298327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f2d25"/>
                </a:gs>
                <a:gs pos="100000">
                  <a:srgbClr val="55534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55534c"/>
                </a:gs>
                <a:gs pos="100000">
                  <a:srgbClr val="2f2d2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2f2d25"/>
                </a:gs>
                <a:gs pos="100000">
                  <a:srgbClr val="55534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2f2d25"/>
                </a:gs>
                <a:gs pos="100000">
                  <a:srgbClr val="55534c"/>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55534c"/>
                </a:gs>
                <a:gs pos="100000">
                  <a:srgbClr val="2f2d2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55534c"/>
                </a:gs>
                <a:gs pos="100000">
                  <a:srgbClr val="2f2d2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9ea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7b6a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FE310-E7B3-4B43-A3F1-A70577CC66C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bibliotecapleyades.net/vatican/esp_vatican29.htm#The%20Tortures"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Witch Torture</a:t>
            </a:r>
            <a:endParaRPr b="0" lang="en-US" sz="5400" spc="-1" strike="noStrike">
              <a:solidFill>
                <a:srgbClr val="ffffcc"/>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ootikens</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One such item was the bootikens. These were boots that went from the person's ankles to knees. Wedges were hammered up the length of the boot into the person's leg, breaking and crushing bones as it went” (Milanes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urcas</a:t>
            </a:r>
            <a:endParaRPr b="0" lang="en-US" sz="4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Another device known as Turcas was used to tear the fingernails out. This was followed by sticking pins or needles into the raw and exposed skin of the fingers” (Milanese).</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Pear</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00"/>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Another tool used was called The Pear. It was a pear shaped apparatus that was often inserted into orifices. It was then expanded by way of a screw. It was often expanded enough until it tore and mangled which ever orifice it had been inserted in. Death would follow shortly, from either blood loss or infection. It was usually equipped with sharp spikes at the end so that a person could also be stabbed with it, usually in the neck” (Milane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incers</a:t>
            </a: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Using red hot pincers against a witch's body was also a favorite. Often a pincer was used to tear off pieces of flesh and in some cases inserted into the private area. Many times a person would be stripped naked, horse whipped, and then would have the pincers used on them. Women sometimes had their breasts torn off with hot pincers to further humiliate them” (Milanese).</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rushing and Stoning</a:t>
            </a: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4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Crushing a witch was often used both to kill and force a confession. The accused would be made to lie on the ground or a table and usually a board was placed on top of them. As they lay there being questioned they would slowly place large rocks upon the board. They would add more and more until the person confessed and then, once having a confession, would add more until the person was no longer able to breathe. It was a slow and painful death.</a:t>
            </a:r>
            <a:br>
              <a:rPr sz="2000"/>
            </a:br>
            <a:r>
              <a:rPr b="0" lang="en-US" sz="2000" spc="-1" strike="noStrike">
                <a:solidFill>
                  <a:srgbClr val="ffffff"/>
                </a:solidFill>
                <a:latin typeface="Tahoma"/>
              </a:rPr>
              <a:t>“</a:t>
            </a:r>
            <a:endParaRPr b="0" lang="en-US" sz="2000" spc="-1" strike="noStrike">
              <a:solidFill>
                <a:srgbClr val="ffffff"/>
              </a:solidFill>
              <a:latin typeface="Tahoma"/>
            </a:endParaRPr>
          </a:p>
          <a:p>
            <a:pPr marL="339480" indent="-339480">
              <a:lnSpc>
                <a:spcPct val="80000"/>
              </a:lnSpc>
              <a:spcBef>
                <a:spcPts val="4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 variation on crushing was stoning. Stoning allowed a mob of people to gather around the accused and pelt them with stones until the person was killed. Depending on the situation a person could be battered for minutes or hours before succumbing to death. Stonings were not always organized events, in some communities a mob would develop before the so-called witch could be tried” (Milanese).</a:t>
            </a:r>
            <a:br>
              <a:rPr sz="2000"/>
            </a:br>
            <a:br>
              <a:rPr sz="2000"/>
            </a:b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rappado</a:t>
            </a: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Another method used to gain a confession was called the Strappado. In this case, the persons wrists were bound behind their back with a rope. The rope was then hoisted over a ceiling beam. The rope was pulled until the person was suspended in the air and then they were viciously dropped. This was repeated until the persons shoulders became dislocated” (Milanese).</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ther Torture Devices Used in Salem Witch Trials</a:t>
            </a:r>
            <a:endParaRPr b="0" lang="en-US" sz="40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 of other Torture Devices can be found at </a:t>
            </a:r>
            <a:r>
              <a:rPr b="0" lang="en-US" sz="3200" spc="-1" strike="noStrike" u="sng">
                <a:solidFill>
                  <a:srgbClr val="e2c86a"/>
                </a:solidFill>
                <a:uFillTx/>
                <a:latin typeface="Tahoma"/>
                <a:hlinkClick r:id="rId1"/>
              </a:rPr>
              <a:t>http://www.bibliotecapleyades.net/vatican/esp_vatican29.htm#The%20Tortures</a:t>
            </a:r>
            <a:endParaRPr b="0" lang="en-US" sz="3200" spc="-1" strike="noStrike">
              <a:solidFill>
                <a:srgbClr val="ffffff"/>
              </a:solidFill>
              <a:latin typeface="Tahoma"/>
            </a:endParaRPr>
          </a:p>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ever, be advised that the images and content are quite graphic in descrip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rks Cited</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home.comcast.net/~burokerl/torture_and_death_for_accused_witches.ht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21:12:14Z</dcterms:created>
  <dc:creator>rspriggs</dc:creator>
  <dc:description/>
  <dc:language>en-US</dc:language>
  <cp:lastModifiedBy>LaToya</cp:lastModifiedBy>
  <dcterms:modified xsi:type="dcterms:W3CDTF">2012-07-30T06:25:25Z</dcterms:modified>
  <cp:revision>2</cp:revision>
  <dc:subject/>
  <dc:title>Witch Torture</dc:title>
</cp:coreProperties>
</file>